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96583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088-3393-4BFE-A568-7E13F02A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6B3-5620-4995-B5EB-D046E4FF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E2D-9EC5-4A55-B495-2B204E49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9D6-3304-415E-83D5-F3969998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677-283D-40C8-AE77-53D0E9AA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5E2-0C8E-403C-99EE-7A490658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478-2969-4BDF-AE16-CCE4035D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DD2-0799-4760-8D55-04C176E6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77D-476E-4783-AE06-53AB5351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24D-3399-4601-96CC-7F84EF1A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BAE-DD04-4119-8236-5CF9A93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A70-A7B8-4EB4-80FB-7F95A3E9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B597-A54B-4ED1-A94B-FA3CD506F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8001000" cy="54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ISMICITY OF TH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(M&gt;3.5; Period: 1980-1999; Red: shallow; Green: intermediate; Blue: dee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230040"/>
          <a:ext cx="83844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0040"/>
                    <a:ext cx="838440" cy="825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19320" y="2133720"/>
            <a:ext cx="6629400" cy="441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6324480" y="58672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GN &amp; ROA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228600"/>
            <a:ext cx="5715000" cy="8323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FERNANDO NAVAL OBSERVATORY (RO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UNIVERSITY COMPLUTENSE OF MADRID (UC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 SEISMIC NET DEPLOYED IN COLLABORATION WITH GF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772400" y="228600"/>
          <a:ext cx="708120" cy="838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228600"/>
                    <a:ext cx="708120" cy="838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8001000" cy="6461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ROA-UCM BB SEISMIC NET: WM 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 BB Stations already deployed: 3 at South Iberia + 3 at Northern Afr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ne station (MALA) is being deployed. A permanent OBS (ALBO) will be deployed within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ntacts with Morocco and Algeria institutes to deploy joint sta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treckeisen STS-2 sensors;  Quanterra/ Earth data digitisers; PC Seiscom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eal time: SFS, MELI, CART, MAHO. In short: CEU. Next Future: PVL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B net associated to GEOFON. SFER and MAHO associated to VEBN (ORFEUS) and MAHO associated to IR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Net Code (requested): WM (Western Mediterranea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ore info: mdavila@roa.es; pazos@roa.es; ebufornp@fis.ucm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UNetwo1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6858000" cy="38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8:09:32Z</dcterms:created>
  <dc:creator>JOSE MARTIN DAVILA</dc:creator>
  <dc:description/>
  <dc:language>en-US</dc:language>
  <cp:lastModifiedBy>José Martín Dávila</cp:lastModifiedBy>
  <cp:lastPrinted>2002-04-19T12:19:19Z</cp:lastPrinted>
  <dcterms:modified xsi:type="dcterms:W3CDTF">2005-09-29T09:51:42Z</dcterms:modified>
  <cp:revision>83</cp:revision>
  <dc:subject/>
  <dc:title>Sin título de diapositiva</dc:title>
</cp:coreProperties>
</file>